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9AE1-968A-4EBB-A119-5AE73358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9D11-6ED0-4AD0-B1BC-1E48FB4B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DAF4-75B8-46DA-A576-1DAF0240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E9B9-F741-4140-B0B9-48AEE48A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FB90-8540-48EB-A514-C6609CE6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767E-22E1-4FDD-962E-EF34195B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46E8-9EC7-4043-BCC4-EC82182E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96B6-4496-482B-B2F7-FECA1F29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556E-679B-4570-A37F-F5EA60B0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446D-9982-40DD-9944-9CEAC3A6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26F4-0623-4B60-B779-4AFA44B7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31BF-F2FD-4CB1-BD36-4BDF2197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498B-684C-4860-8964-AE5CA087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FFDA-36F8-4BDA-A7F1-2B08B442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B22A-B676-4C14-B099-1F7A494C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A19A-FFA2-4555-8BBF-BBA83C02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778F-FECA-475F-BC28-DADEE139C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0F85-6DFC-4C07-AD37-B6650914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045A-F5B4-4B22-A27E-F023BDB3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2A38-4763-4254-A3A5-9C61B79C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22F4-CEED-4323-A656-E6A095BD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3B5D-AEC4-4B79-A252-027D26C3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37C9-F75B-4B90-B068-DCF538FB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F01D-263C-4F11-9DE8-080C6228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82E6-633C-4240-B664-13E0B9E5198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6810-673E-4126-ACEF-992520158F3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Give Us A K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rter 5, Lesson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 Samuel 19:41-21: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ges 94-9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5616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533840" y="152280"/>
            <a:ext cx="4610160" cy="2943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flipH="1">
            <a:off x="2133360" y="1066680"/>
            <a:ext cx="4800600" cy="4038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533840" y="3124080"/>
            <a:ext cx="4610160" cy="2943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48320" y="609588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In these sketches, the buildings are scraped off the rock. Notice the area in the next slide WITH build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28600" y="4680"/>
            <a:ext cx="8763120" cy="6789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324480" y="609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avid’s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019560" y="1219320"/>
            <a:ext cx="60948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457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ater, The T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Rebellion of Sheb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ention/jealousy between Judah and Israel about bringing back the king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. 19:41-4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eba rebelled against David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. 20:1-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vid returned to Jerusalem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. 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te of the ten concubines left in the c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e the distinction now between Israel and Judah; 10 parts to one par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heba Pursue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425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masa sent to assemble the men of Judah, v. 4-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d in the meantime, Abishai sent to pursue after Sheba, v. 20:6-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vid bypasses Joab a second ti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ab killed Amasa, v. 8-1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ab reassumed command of the arm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masa’s body pulled off the ro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in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heba Slai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662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eba fled to Abel of Beth-maacah, v. 14-15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wise woman negotiated with Joab, v. 16-1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eba’s head in exchange for Abel,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v. 20-2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vid reorganized his officers,       v. 23-26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in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ighting Some Wrong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ason for 3-year famine, v. 21: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rong to Gibeonites avenged, v. 2-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d 7 sons of Sau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phibosheth spared due to oat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ul’s other 2 sons and 5 grandsons offered to the Gibeonites and hang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vid buried the bones of Saul &amp; Jonathan with the seven, v. 10-1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d’s justice was satisfied, v. 14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in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22:31:44Z</dcterms:created>
  <dc:creator>Terry W. Benton</dc:creator>
  <dc:description/>
  <dc:language>en-US</dc:language>
  <cp:lastModifiedBy>Frank D Vines</cp:lastModifiedBy>
  <dcterms:modified xsi:type="dcterms:W3CDTF">2005-07-19T14:06:16Z</dcterms:modified>
  <cp:revision>12</cp:revision>
  <dc:subject/>
  <dc:title>Give Us A King</dc:title>
</cp:coreProperties>
</file>